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F6E-BA6D-445A-AC7C-650ADFB6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7FF-0CB7-4845-82C2-E7A00C5D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683-8C2B-481B-885A-E8D037DA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842-1698-4E60-861C-07ABADF1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AD0-F824-420B-A666-B0D6B5ED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FF6-F4B1-4908-ADCF-A8E1F7E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F88-1E8D-4234-9FAB-E09F648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D7B-B6A9-4F83-8A80-F040196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87D-31E5-47A8-AFE6-517560CE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59C-A166-4C3B-86DA-83A7A3B9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005-D43E-4DA2-A6CD-A0434CA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DA1-7070-4F14-93F5-791ECAF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D0C-66A2-4BF3-8711-A72DEB81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3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3818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03200" y="380880"/>
            <a:ext cx="63090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9257"/>
          <a:stretch/>
        </p:blipFill>
        <p:spPr>
          <a:xfrm>
            <a:off x="914400" y="0"/>
            <a:ext cx="667548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3600" y="304920"/>
            <a:ext cx="481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8:22:55Z</dcterms:created>
  <dc:creator>Patrick J. Mooney</dc:creator>
  <dc:description/>
  <dc:language>en-US</dc:language>
  <cp:lastModifiedBy>Patrick J. Mooney</cp:lastModifiedBy>
  <dcterms:modified xsi:type="dcterms:W3CDTF">2010-11-14T18:33:41Z</dcterms:modified>
  <cp:revision>1</cp:revision>
  <dc:subject/>
  <dc:title>Slide 1</dc:title>
</cp:coreProperties>
</file>